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92B-1A50-4A8F-B33C-8AC7148A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8C75-197E-4FF9-BB10-55DFE174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138D-0992-455C-9CF2-73DA0FAB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28C-17B5-4643-9397-1FC0C41D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2FD2-4047-4143-B388-5FAD41BB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19D-7E78-4953-92C6-4A667684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D5D4-A28F-487D-A287-A78031A9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2CE-2B49-408D-8C7C-E6E63A4B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5864-7220-4321-995D-185033E6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547-ED68-482C-9C03-91A54D24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20B-EF34-4463-9B3A-8854C845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53C9-508A-45EB-8C2B-BC7987D1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0161-6780-4B27-AB63-EC8F568D7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1052280"/>
            <a:ext cx="7993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идовой состав обитателей аквариума в зависимости от возраста детей (программа). Паспорта 5-ти аквариумных рыбкам (гуппи, меченосец, барбус, сомик, любая разновидность золотой рыбки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ыполн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Герасимова Ма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грамма Марковская «Уголок природы в детском сад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II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младшая групп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.: Золотая рыбка, кар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редняя групп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.: разновидности золотой рыбки (кроме вуалехвоста и телескоп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таршая групп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.: разновидности золотой рыбки-вуалехвост, телескоп, моне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Подготовительная групп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.: тепловодные рыбы (живородящие, лабиринтов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упп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одолжительность жизни: 3-4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Размер: 3-8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Температура воды: 18-30С (лучше 23-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овместимость: ми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пособ размножения: живородя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32360" y="4076640"/>
            <a:ext cx="374508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Меченос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родолжительность жизн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змер: 6-1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емпература воды: 22-26С (хорошо переносит понижение до 15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овместим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пособ размножения: живородя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19640" y="4508640"/>
            <a:ext cx="34336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мик золотист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Продолжительность жизни: 2-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Размер: 6-7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Температура воды: 23-28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Совместимость: ми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Способ размножения: икромечу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92720" y="4437000"/>
            <a:ext cx="345132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рбус солне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Продолжительность жизни: 3-5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Размер: 3-5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Температура воды: 18-22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Совместимость: ми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Способ размножения: икромечу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08720" y="4497480"/>
            <a:ext cx="284148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Телескоп крас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родолжительность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змер: до 25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емпература воды: 15-30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овместимость: ми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пособ размнож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08720" y="4581360"/>
            <a:ext cx="298116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7:36:36Z</dcterms:created>
  <dc:creator>User</dc:creator>
  <dc:description/>
  <dc:language>en-US</dc:language>
  <cp:lastModifiedBy>User</cp:lastModifiedBy>
  <dcterms:modified xsi:type="dcterms:W3CDTF">2010-05-21T16:13:26Z</dcterms:modified>
  <cp:revision>8</cp:revision>
  <dc:subject/>
  <dc:title>Видовой состав обитателей аквариума в зависимости от возраста детей (программа). Паспорта 5-ти аквариумных рыбкам (гуппи, меченосец, барбус, сомик, любая разновидность золотой рыбки) </dc:title>
</cp:coreProperties>
</file>